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9CF-EEAD-42D3-BEB2-D2CC07F844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7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90B-27F9-4590-92F5-700AF993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E613-B5F9-483E-BDC9-D4CA7E3F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011Powerpoint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2011Innerslid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7d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4572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7d7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4920" y="4648320"/>
            <a:ext cx="2666880" cy="98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ce National or Local Organization logo here</a:t>
            </a:r>
            <a:br>
              <a:rPr sz="9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loca el logotipo de tu Organización Nacional o Local aquí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nsérer ici le logo de l’Organisation nationale ou loc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7d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3:15:48Z</dcterms:created>
  <dc:creator>JCI</dc:creator>
  <dc:description/>
  <dc:language>en-US</dc:language>
  <cp:lastModifiedBy>Laura Tabat</cp:lastModifiedBy>
  <dcterms:modified xsi:type="dcterms:W3CDTF">2011-04-11T18:10:52Z</dcterms:modified>
  <cp:revision>7</cp:revision>
  <dc:subject/>
  <dc:title>Slide 1</dc:title>
</cp:coreProperties>
</file>